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93CE-3532-431F-9C64-0BB8D0BF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2074-055E-4486-A992-B1E359E0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693C-AE68-4130-852D-B8C2EDA7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C24D-451B-46D5-836B-E9919372A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07EA-ECE4-4298-842B-4EBA45A8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2531-2229-4762-8F48-55C9DCA9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865C-0422-436C-A39B-27F18A4D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7F28-19C1-4E5B-9486-B2FE6754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F448-323E-4088-8D92-1DCBF30D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A241-07A6-4AB3-9F0D-DCDAC231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ABCD-718D-4D3F-A0E3-B6C74E2E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22B6-1FC5-423E-900C-83DE7529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6038-309E-4292-BC33-526B4FF1D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GEL24" descr=""/>
          <p:cNvPicPr/>
          <p:nvPr/>
        </p:nvPicPr>
        <p:blipFill>
          <a:blip r:embed="rId2"/>
          <a:stretch/>
        </p:blipFill>
        <p:spPr>
          <a:xfrm>
            <a:off x="0" y="1108080"/>
            <a:ext cx="4654440" cy="4641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028760" y="361800"/>
            <a:ext cx="5452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كل قلبي عم صلي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قدملك حالي بخش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كل قلبي بهدي ح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مجد اسمك يس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شكر ربي أنا الإنس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ا صورة الله خلق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ا نعماتو السماو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مزروعة في كل مك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ذكر محبته الغنية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بتعيشنا بأم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NGEL24" descr=""/>
          <p:cNvPicPr/>
          <p:nvPr/>
        </p:nvPicPr>
        <p:blipFill>
          <a:blip r:embed="rId2"/>
          <a:stretch/>
        </p:blipFill>
        <p:spPr>
          <a:xfrm>
            <a:off x="0" y="1108080"/>
            <a:ext cx="4654440" cy="4641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132800" y="228600"/>
            <a:ext cx="5452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كل قلبي عم صلي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قدملك حالي بخش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كل قلبي بهدي ح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مجد اسمك يس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ا العايش بالخط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سلم حالي للنسي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تنقصني شوية إراد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تفة محبة وإيم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عطيني توبة حقيق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دخل بقلبي الحن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NGEL24" descr=""/>
          <p:cNvPicPr/>
          <p:nvPr/>
        </p:nvPicPr>
        <p:blipFill>
          <a:blip r:embed="rId2"/>
          <a:stretch/>
        </p:blipFill>
        <p:spPr>
          <a:xfrm>
            <a:off x="0" y="1108080"/>
            <a:ext cx="4654440" cy="4641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132800" y="361800"/>
            <a:ext cx="5452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كل قلبي عم صلي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قدملك حالي بخش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كل قلبي بهدي ح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مجد اسمك يس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فرح وبهلل لعيادك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نت يا رب الأكو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قبلني واحد من أولاد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محبتك أنا جوع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عبة اتخلى عن درب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ح تبقى بقلبي دفي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USER</cp:lastModifiedBy>
  <dcterms:modified xsi:type="dcterms:W3CDTF">2002-10-31T14:01:12Z</dcterms:modified>
  <cp:revision>2</cp:revision>
  <dc:subject/>
  <dc:title>PowerPoint Presentation</dc:title>
</cp:coreProperties>
</file>